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D10D-D9CE-4291-983E-3AA02F46A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8720" y="352296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C4AF-E82A-4C86-8C6D-1AE56F46D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160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71E1-41F8-467C-99D8-0D846BDB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980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088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872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980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0088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F36D-3F19-488C-AA56-D43B0D748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720" y="1333440"/>
            <a:ext cx="8786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878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26720"/>
            <a:ext cx="884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8720" y="1333440"/>
            <a:ext cx="8786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3DCA-35A2-49D9-BBD8-62DEF9360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160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720" y="352296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160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2980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00880" y="133344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872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2980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00880" y="3522960"/>
            <a:ext cx="2829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878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DA7E-37FD-481F-879B-61690FEB6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1078-B2CB-4227-9C25-F4832AFD6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826E-B4E7-4205-8549-9F74B1F04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26720"/>
            <a:ext cx="884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BD86-6764-4B7C-92B3-BA4B0A633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566D-02E2-4BEB-BAC3-CAB52A8E5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1600" y="352296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F1CB-C902-40D8-A0B8-19EAD0475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600" y="1333440"/>
            <a:ext cx="4287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8720" y="3522960"/>
            <a:ext cx="8786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F649-0AFB-4FDA-9FB6-1A1589BEC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558720"/>
            <a:ext cx="7529760" cy="3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884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8720" y="1333440"/>
            <a:ext cx="878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040" y="6486120"/>
            <a:ext cx="2063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6F46-4B05-4D72-9015-9657B1C8A668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76600" y="6438960"/>
            <a:ext cx="5399280" cy="3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8488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ociazione Italiana Incontri e Studi sullo Sviluppo Local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8360" y="0"/>
            <a:ext cx="916776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3440" y="3017880"/>
            <a:ext cx="8318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6280" y="114480"/>
            <a:ext cx="1658880" cy="107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90600" y="1133640"/>
            <a:ext cx="76726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"/>
          <p:cNvSpPr/>
          <p:nvPr/>
        </p:nvSpPr>
        <p:spPr>
          <a:xfrm>
            <a:off x="19080" y="6442200"/>
            <a:ext cx="98679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2494440"/>
            <a:ext cx="905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Verdana"/>
              </a:rPr>
              <a:t>Osservatorio della Competitività </a:t>
            </a:r>
            <a:br>
              <a:rPr sz="3600"/>
            </a:br>
            <a:r>
              <a:rPr b="1" lang="it-IT" sz="3600" spc="-1" strike="noStrike">
                <a:solidFill>
                  <a:srgbClr val="ff9900"/>
                </a:solidFill>
                <a:latin typeface="Verdana"/>
              </a:rPr>
              <a:t>Urbana e Territorial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"/>
          <p:cNvSpPr/>
          <p:nvPr/>
        </p:nvSpPr>
        <p:spPr>
          <a:xfrm>
            <a:off x="5740560" y="5854680"/>
            <a:ext cx="40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enevento, 29 Giugno 2009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5800" y="1219320"/>
            <a:ext cx="92379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cc0000"/>
              </a:buClr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buClr>
                <a:srgbClr val="cc0000"/>
              </a:buClr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829800"/>
            <a:ext cx="8842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4.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SITO WEB DELL’OSSERVATORIO</a:t>
            </a: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>
            <a:off x="1023840" y="1587600"/>
            <a:ext cx="7839000" cy="32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Che cos’è/ a cosa serv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o strumento di “lavoro” per gli associati: attraverso il sito gli associati possono fruire del servizio “Osservatorio” (ranking, elaborazione dei dati nel posizionamento prescelto)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vetrina della competitività urbana: un luogo virtuale di informazioni, segnalazioni su convegni, seminari, incontri, ecc. e materiale (documenti aggiornati) consultabile e scaricabile agevolmen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"/>
          <p:cNvSpPr/>
          <p:nvPr/>
        </p:nvSpPr>
        <p:spPr>
          <a:xfrm>
            <a:off x="6114960" y="100080"/>
            <a:ext cx="366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/ SERVIZ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DBF8-6B4F-4166-898D-A21B833EF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040520" y="114120"/>
            <a:ext cx="28656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COME ADERI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1716120"/>
            <a:ext cx="87865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"/>
          <p:cNvSpPr/>
          <p:nvPr/>
        </p:nvSpPr>
        <p:spPr>
          <a:xfrm>
            <a:off x="966960" y="1827360"/>
            <a:ext cx="765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6200" y="824040"/>
            <a:ext cx="8842680" cy="48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aderire all’Osservatorio?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gg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manifestando l’interesse ad approfondire il tema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uccessivament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prendendo contatto per un approfondimento sullo strumento di misurazione, sull’Osservatorio, sui passi concreti per l’adesione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3. Formalizzando l’adesione all’Osservatorio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 frattempo, durante il prossimo semestre, saranno completati gli indicatori e i ranking relativi alle dimensioni mancanti al livello comunale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release definitiva dell’”Osservatorio 2010” sarà presentata durante l’Incontro Internazionale di Studi AISLo che si svolgerà a Napoli a dicembre 2009.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53C0-2A9C-475D-9BA6-8A7E5B5B6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294600" y="88596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1143000"/>
            <a:ext cx="9489960" cy="489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Verdana"/>
              </a:rPr>
              <a:t>COMPETITIVITA’ URBANA E TERRITOR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Un profilo complesso fatto di dati ed informazioni che descrivono la performance del sistema territoria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nalisi della performance delle imprese all’osservazione del territorio nella sua complessità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 nude valutazioni di assetto economico a fattori “soft” e intangibili, dotazioni, saperi, conoscenze, specializzazion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isure di attrattività e competitività descrivono la qualità delle politiche e delle amministrazion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olte dimensioni, economiche, sociali, tecniche, cognitiv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mpetitività non è solo concorrenza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è anche risultato di co-operazio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 territorio e fra istituzion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"/>
          <p:cNvSpPr/>
          <p:nvPr/>
        </p:nvSpPr>
        <p:spPr>
          <a:xfrm>
            <a:off x="630864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57240"/>
            <a:ext cx="728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174600"/>
            <a:ext cx="20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PREMESS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2C8D-1790-456A-B775-5AFF73CC4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294600" y="88596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"/>
          <p:cNvSpPr/>
          <p:nvPr/>
        </p:nvSpPr>
        <p:spPr>
          <a:xfrm>
            <a:off x="189000" y="1185840"/>
            <a:ext cx="9489960" cy="23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Verdana"/>
              </a:rPr>
              <a:t>COMPETITIVITA’ URBANA E TERRITOR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territorio, in altri termini, è competitivo quando impiega in modo efficiente ed efficace le risorse sulle quali punta, per raggiungere un orizzonte obiettivo chiaro che si è dato, confrontandosi con altre realtà e con le proprie performances presenti e pass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"/>
          <p:cNvSpPr/>
          <p:nvPr/>
        </p:nvSpPr>
        <p:spPr>
          <a:xfrm>
            <a:off x="630864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57240"/>
            <a:ext cx="728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"/>
          <p:cNvSpPr/>
          <p:nvPr/>
        </p:nvSpPr>
        <p:spPr>
          <a:xfrm>
            <a:off x="7693200" y="117360"/>
            <a:ext cx="20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PREMESS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473280"/>
            <a:ext cx="9906120" cy="12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Verdana"/>
              </a:rPr>
              <a:t>PERCHE’ un OSSERVATORIO della COMPETITIVITA’ URBANA E TERRITORIALE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mpetitività = Tema centrale del dibattito scientifico e politico mondiale,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europeo, nazional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FE76-6E98-468D-9F9F-A7247AB22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37280" y="885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880920"/>
            <a:ext cx="7745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L’Osservatorio della Competitività Urbana e Territorial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è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UOGO” d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sservazione e misurazione continua della competitività urbana e territoria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 Apprendimento, confronto e cooperazione tra i soggetti che vi aderiscon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"/>
          <p:cNvSpPr/>
          <p:nvPr/>
        </p:nvSpPr>
        <p:spPr>
          <a:xfrm>
            <a:off x="5372280" y="1872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CHE COS’E’ e A CHI SI RIVOLG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"/>
          <p:cNvSpPr/>
          <p:nvPr/>
        </p:nvSpPr>
        <p:spPr>
          <a:xfrm>
            <a:off x="1325520" y="3557520"/>
            <a:ext cx="73677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SI RIVOLGE, INNANZITUTTO, 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ITTA’ itali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VINCE itali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A ANCH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a istituzioni pubbliche, imprese e attori sociali che hanno interesse ad informazioni per valutare ed incrementare il potenziale economico, produttivo e di capitale umano e sociale delle Città e dei Territori in cui operan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FC49-565D-4702-B876-2AC28CEDF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4360" y="1363680"/>
            <a:ext cx="9171000" cy="314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sservatorio consente alle Città, alle Province e a tutti quelli che vi aderiscono d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onitorare costantemente il raggiungimento dei propri obiettivi strategic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e ragioni dei risultati ottenuti e, quindi, su azioni correttive da intraprender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ettersi in rete con le altre amministrazioni, innescando un circuito di comunicazione e scambio, basato su una appropriata misurazione delle performances territorial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municare con i cittadini e gli stakeholde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"/>
          <p:cNvSpPr/>
          <p:nvPr/>
        </p:nvSpPr>
        <p:spPr>
          <a:xfrm>
            <a:off x="6786720" y="185760"/>
            <a:ext cx="301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 COSA SERV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7191-58A9-453F-B50F-6C6FC9C87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3120" y="1257480"/>
            <a:ext cx="9171000" cy="38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sservatorio svolge le seguent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TTIVIT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’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à di Benchmar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à di Benchlearn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Incontro Internazionale dell’Osservatori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Sito Web dell’Osservatori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Verdana"/>
              </a:rPr>
              <a:t>In prospettiva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Verdana"/>
              </a:rPr>
              <a:t>Realizzazione di progetti di ricerca ad hoc per gli associa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"/>
          <p:cNvSpPr/>
          <p:nvPr/>
        </p:nvSpPr>
        <p:spPr>
          <a:xfrm>
            <a:off x="6157800" y="200160"/>
            <a:ext cx="366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/ SERVIZ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0AA3-C9ED-4F26-AA1B-491BECD4D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3400" y="1582560"/>
            <a:ext cx="8085240" cy="29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Che cos’è/ a cosa serv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odello di misurazione della competitività dei sistemi urbani 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rritorial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0 dimensioni e 127 indicatori*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stema statistico-informativo di elaborazione e support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anking, dati ed indicatori disponibili on line, su specifica piattaform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885960"/>
            <a:ext cx="589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1.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 DI BENCHMAR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4944960"/>
            <a:ext cx="775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6600"/>
                </a:solidFill>
                <a:latin typeface="Verdana"/>
              </a:rPr>
              <a:t>*</a:t>
            </a:r>
            <a:r>
              <a:rPr b="1" lang="it-IT" sz="1200" spc="-1" strike="noStrike">
                <a:solidFill>
                  <a:srgbClr val="cc6600"/>
                </a:solidFill>
                <a:latin typeface="Verdana"/>
              </a:rPr>
              <a:t>Gli indicatori riguardano</a:t>
            </a:r>
            <a:r>
              <a:rPr b="0" lang="it-IT" sz="1200" spc="-1" strike="noStrike">
                <a:solidFill>
                  <a:srgbClr val="cc6600"/>
                </a:solidFill>
                <a:latin typeface="Verdana"/>
              </a:rPr>
              <a:t>: </a:t>
            </a:r>
            <a:r>
              <a:rPr b="0" i="1" lang="it-IT" sz="1200" spc="-1" strike="noStrike">
                <a:solidFill>
                  <a:srgbClr val="cc6600"/>
                </a:solidFill>
                <a:latin typeface="Verdana"/>
              </a:rPr>
              <a:t>1. Sviluppo delle risorse umane; 2. Ricerca ed innovazione;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cc6600"/>
                </a:solidFill>
                <a:latin typeface="Verdana"/>
              </a:rPr>
              <a:t>3. Efficienza e sostenibilità delle risorse ambientali; 4. Inclusione sociale e qualità di servizi all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cc6600"/>
                </a:solidFill>
                <a:latin typeface="Verdana"/>
              </a:rPr>
              <a:t>persone; 5. Sviluppo dei sistemi produttivi locali; 6. Aumento dell’attrattività dei sistemi urbani;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cc6600"/>
                </a:solidFill>
                <a:latin typeface="Verdana"/>
              </a:rPr>
              <a:t>7. Reti per aumentare la mobilità; 8. Apertura internazionale; 9. Pubblica amministrazione 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cc6600"/>
                </a:solidFill>
                <a:latin typeface="Verdana"/>
              </a:rPr>
              <a:t>governance; 10. Information &amp; Communication Technologies (sono dimensioni del QSN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"/>
          <p:cNvSpPr/>
          <p:nvPr/>
        </p:nvSpPr>
        <p:spPr>
          <a:xfrm>
            <a:off x="6143760" y="142920"/>
            <a:ext cx="366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/ SERVIZ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A9FC-1B02-4010-8D4B-DAF4CB2CE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4040" y="658800"/>
            <a:ext cx="8508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871560"/>
            <a:ext cx="589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2.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 DI BENCHLEARN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"/>
          <p:cNvSpPr/>
          <p:nvPr/>
        </p:nvSpPr>
        <p:spPr>
          <a:xfrm>
            <a:off x="1023840" y="1644480"/>
            <a:ext cx="7839000" cy="344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Che cos’è/ a cosa serv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fronto continuo e strutturat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i risultati ottenuti nel benchmarking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lla possibilità/opportunità di trasferire strategie/azioni di successo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lle ragioni del miglioramento/peggioramento del proprio percorso nel tempo, rispettando il “profilo strategico”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lle dimensioni anche non coperte statisticamen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"/>
          <p:cNvSpPr/>
          <p:nvPr/>
        </p:nvSpPr>
        <p:spPr>
          <a:xfrm>
            <a:off x="6129360" y="128520"/>
            <a:ext cx="366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/ SERVIZ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7445-00FB-424D-86C6-9E9A000DE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54040" y="687240"/>
            <a:ext cx="8508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"/>
          <p:cNvSpPr/>
          <p:nvPr/>
        </p:nvSpPr>
        <p:spPr>
          <a:xfrm>
            <a:off x="1422360" y="914400"/>
            <a:ext cx="657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3.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INCONTRO INTERNAZIONALE DELL’OSSERVATORI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"/>
          <p:cNvSpPr/>
          <p:nvPr/>
        </p:nvSpPr>
        <p:spPr>
          <a:xfrm>
            <a:off x="936720" y="2073240"/>
            <a:ext cx="7839000" cy="22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Che cos’è/ a cosa serv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tema “caldo” ogni ann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boratori di confronto sui ranking e sulle dinamiche di svilupp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nalisi ed interpretazioni per dimensione, profilo di città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blem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"/>
          <p:cNvSpPr/>
          <p:nvPr/>
        </p:nvSpPr>
        <p:spPr>
          <a:xfrm>
            <a:off x="6157800" y="128520"/>
            <a:ext cx="366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Verdana"/>
              </a:rPr>
              <a:t>ATTIVITA’/ SERVIZ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08D0-28EE-48C6-8495-FC8AFE7BB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0:43Z</dcterms:created>
  <dc:creator>SteBro</dc:creator>
  <dc:description/>
  <dc:language>en-US</dc:language>
  <cp:lastModifiedBy>Fvolpe</cp:lastModifiedBy>
  <dcterms:modified xsi:type="dcterms:W3CDTF">2009-06-26T12:04:39Z</dcterms:modified>
  <cp:revision>302</cp:revision>
  <dc:subject/>
  <dc:title>Presentazione di PowerPoint</dc:title>
</cp:coreProperties>
</file>